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336BC-FB24-4822-A658-D88E8359C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A792-48E7-4219-81DA-02556E21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D0C2F-86A0-4009-B3F3-8DCACB263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CDC58-C4A0-4732-8EF2-00A82128A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3F6B1-B2B9-4439-BC12-C1B6C0114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8B20C-F600-46CC-AA90-2CD505D57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BCA36-F4DC-4257-8D40-170302247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5E511-4F06-49C8-A605-0E98B63F4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33D6F-01B9-4B64-ACAA-28E6DEE4F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1C13B-1B76-46B3-803D-0F4031A91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8ED1-CED2-49FB-8AFE-22D22589E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C178E-9EC5-4CD0-952C-DAF6D2185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F1D93-02D4-4193-BD36-08CB7BC4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5BD2A-67E7-4FA1-8253-F492FCB0B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A47EB-146D-4754-981E-F141EBC16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05984-F800-4137-BD5D-C4084DF12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B1C0B-8AD4-496E-9A4F-1E50069E4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AD74B2-F6BA-4626-A378-B47A02BB9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C1F9EF-DD18-479D-8B38-1FE5BFD39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F87E4-0685-4C53-947A-A8218D685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A2491-3DC4-43E2-8455-84A17F193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EF85A-5730-4C87-B7A2-105A345E0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16C16-B9B6-4326-9C41-0B7D7F57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451AD-A27B-48D9-97DD-69C16B0B2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815FB-A8C0-4960-97C2-C4678F929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84C44-9FE0-4250-8891-93C16F807C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3D945-16C7-403F-A617-69C646E26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514BB-BE88-4671-B2E6-41A6B8400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C133D9-E367-483E-B6C0-DE84045AF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E4EC19-FC1A-4981-BE84-8961E9380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C05EB-1F6E-4EC6-9A48-2637FDFFE3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0744C-DDDD-402B-8FE9-314CF3EB90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AB085-A759-4A27-9C49-0B606BD65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4302F-5430-40BF-B6CA-FF176AD9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FDA53-E611-43F0-B11B-F9099ED85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3F940-D37C-4EA3-82A1-016AF7308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ECB57-BAFA-4D69-A4EB-31729A940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63228-6FE1-43F4-BDF2-7FE51AFF7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CAA9E-1EF3-411B-8456-0F69423EA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90221-2120-43D4-AFF3-749014EA4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C78AC-7589-4016-9470-8377661E7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AFFB83-DD00-4356-95EF-169E35F7E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C7421E-605C-48D7-AE60-163622243D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E3D1-2950-43C3-8789-F9A51DE29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E04ED-D025-4451-874A-405A1255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7B2D-9743-4BDF-9C69-C0384D434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6BE1-3EFC-44CC-A763-9A05235E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6D59A-8AF2-46CD-A80D-288D43103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371A-00FA-42F0-93D2-7D1DCF009D92}"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32BB-2360-4F6D-879F-B15E2873B22D}"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82" name="PlaceHolder 2"/>
          <p:cNvSpPr>
            <a:spLocks noGrp="1"/>
          </p:cNvSpPr>
          <p:nvPr>
            <p:ph type="body"/>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735480" indent="-28296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cond Outline Level</a:t>
            </a:r>
            <a:endParaRPr b="0" lang="en-US" sz="3200" spc="-1" strike="noStrike">
              <a:solidFill>
                <a:srgbClr val="ffff66"/>
              </a:solidFill>
              <a:latin typeface="Century Gothic"/>
            </a:endParaRPr>
          </a:p>
          <a:p>
            <a:pPr lvl="2" marL="113148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Third Outline Level</a:t>
            </a:r>
            <a:endParaRPr b="0" lang="en-US" sz="3200" spc="-1" strike="noStrike">
              <a:solidFill>
                <a:srgbClr val="ffff66"/>
              </a:solidFill>
              <a:latin typeface="Century Gothic"/>
            </a:endParaRPr>
          </a:p>
          <a:p>
            <a:pPr lvl="3" marL="158400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ourth Outline Level</a:t>
            </a:r>
            <a:endParaRPr b="0" lang="en-US" sz="3200" spc="-1" strike="noStrike">
              <a:solidFill>
                <a:srgbClr val="ffff66"/>
              </a:solidFill>
              <a:latin typeface="Century Gothic"/>
            </a:endParaRPr>
          </a:p>
          <a:p>
            <a:pPr lvl="4"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ifth Outline Level</a:t>
            </a:r>
            <a:endParaRPr b="0" lang="en-US" sz="3200" spc="-1" strike="noStrike">
              <a:solidFill>
                <a:srgbClr val="ffff66"/>
              </a:solidFill>
              <a:latin typeface="Century Gothic"/>
            </a:endParaRPr>
          </a:p>
          <a:p>
            <a:pPr lvl="5"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ixth Outline Level</a:t>
            </a:r>
            <a:endParaRPr b="0" lang="en-US" sz="3200" spc="-1" strike="noStrike">
              <a:solidFill>
                <a:srgbClr val="ffff66"/>
              </a:solidFill>
              <a:latin typeface="Century Gothic"/>
            </a:endParaRPr>
          </a:p>
          <a:p>
            <a:pPr lvl="6"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venth Outline Level</a:t>
            </a:r>
            <a:endParaRPr b="0" lang="en-US" sz="3200" spc="-1" strike="noStrike">
              <a:solidFill>
                <a:srgbClr val="ffff66"/>
              </a:solidFill>
              <a:latin typeface="Century Gothic"/>
            </a:endParaRPr>
          </a:p>
        </p:txBody>
      </p:sp>
      <p:sp>
        <p:nvSpPr>
          <p:cNvPr id="83" name="PlaceHolder 3"/>
          <p:cNvSpPr>
            <a:spLocks noGrp="1"/>
          </p:cNvSpPr>
          <p:nvPr>
            <p:ph type="dt" idx="7"/>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EE37-9AA7-4C9E-AAEC-49C72E80DFA4}"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123" name="PlaceHolder 2"/>
          <p:cNvSpPr>
            <a:spLocks noGrp="1"/>
          </p:cNvSpPr>
          <p:nvPr>
            <p:ph type="dt" idx="10"/>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0A21-0291-4366-950C-91ED04D37DC8}"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entury Gothic"/>
              </a:rPr>
              <a:t>Second Outline Level</a:t>
            </a:r>
            <a:endParaRPr b="0" lang="en-US" sz="2800" spc="-1" strike="noStrike">
              <a:solidFill>
                <a:srgbClr val="ffff66"/>
              </a:solidFill>
              <a:latin typeface="Century Gothic"/>
            </a:endParaRPr>
          </a:p>
          <a:p>
            <a:pPr lvl="2" marL="914400" algn="ctr">
              <a:spcBef>
                <a:spcPts val="601"/>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Third Outline Level</a:t>
            </a:r>
            <a:endParaRPr b="0" lang="en-US" sz="2400" spc="-1" strike="noStrike">
              <a:solidFill>
                <a:srgbClr val="ffff66"/>
              </a:solidFill>
              <a:latin typeface="Century Gothic"/>
            </a:endParaRPr>
          </a:p>
          <a:p>
            <a:pPr lvl="3" marL="1371600" algn="ctr">
              <a:spcBef>
                <a:spcPts val="499"/>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ourth Outline Level</a:t>
            </a:r>
            <a:endParaRPr b="0" lang="en-US" sz="2000" spc="-1" strike="noStrike">
              <a:solidFill>
                <a:srgbClr val="ffff66"/>
              </a:solidFill>
              <a:latin typeface="Century Gothic"/>
            </a:endParaRPr>
          </a:p>
          <a:p>
            <a:pPr lvl="4" marL="1828800" algn="ctr">
              <a:spcBef>
                <a:spcPts val="499"/>
              </a:spcBef>
              <a:buClr>
                <a:srgbClr val="ffff66"/>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ifth Outline Level</a:t>
            </a:r>
            <a:endParaRPr b="0" lang="en-US" sz="2000" spc="-1" strike="noStrike">
              <a:solidFill>
                <a:srgbClr val="ffff66"/>
              </a:solidFill>
              <a:latin typeface="Century Gothic"/>
            </a:endParaRPr>
          </a:p>
          <a:p>
            <a:pPr lvl="5"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ixth Outline Level</a:t>
            </a:r>
            <a:endParaRPr b="0" lang="en-US" sz="2000" spc="-1" strike="noStrike">
              <a:solidFill>
                <a:srgbClr val="ffff66"/>
              </a:solidFill>
              <a:latin typeface="Century Gothic"/>
            </a:endParaRPr>
          </a:p>
          <a:p>
            <a:pPr lvl="6"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eventh Outline Level</a:t>
            </a:r>
            <a:endParaRPr b="0" lang="en-US" sz="2000" spc="-1" strike="noStrike">
              <a:solidFill>
                <a:srgbClr val="ffff66"/>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Cochin"/>
              </a:rPr>
              <a:t>The Misfits</a:t>
            </a:r>
            <a:br>
              <a:rPr sz="9900"/>
            </a:br>
            <a:r>
              <a:rPr b="0" lang="en-US" sz="9900" spc="-1" strike="noStrike">
                <a:solidFill>
                  <a:srgbClr val="ffffff"/>
                </a:solidFill>
                <a:latin typeface="Cochin"/>
              </a:rPr>
              <a:t>by</a:t>
            </a:r>
            <a:br>
              <a:rPr sz="9900"/>
            </a:br>
            <a:r>
              <a:rPr b="0" lang="en-US" sz="9900" spc="-1" strike="noStrike">
                <a:solidFill>
                  <a:srgbClr val="ffffff"/>
                </a:solidFill>
                <a:latin typeface="Cochin"/>
              </a:rPr>
              <a:t>James Howe</a:t>
            </a:r>
            <a:endParaRPr b="0" lang="en-US" sz="9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0" y="-360"/>
            <a:ext cx="9144000" cy="533412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You are about to enter the walls of Paintbrush Falls Middle School and the minds of some of its students. Expect an interesting, fun journey. As you read this novel, you will be amazed with how honest the author was in creating his characters and including their day to day experiences, conversations, and thoughts. You will laugh, I hope, and you may even cry. If this book does not touch a bit of your life and make you feel connected to its characters in some way, I will be amazed. I am sure you will find the ideas within its pages to be hilariously true or perhaps almost painfully realistic. You’ll see. The characters you will meet may remind you of someone you don’t know well but see in the halls every morning. On the other hand. You may see yourself or someone you know very well in some of the characters you meet. Please let yourself enjoy the book from cover to cover. </a:t>
            </a: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base">
                                        <p:cTn id="7" dur="60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8" dur="600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Remember to stick to the battle cry:</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Sticks and stones may break our bones,</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But names will break our spirit.</a:t>
            </a:r>
            <a:endParaRPr b="0" lang="en-US" sz="2400" spc="-1" strike="noStrike">
              <a:solidFill>
                <a:srgbClr val="ffff66"/>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2" presetSubtype="1">
                                  <p:stCondLst>
                                    <p:cond delay="0"/>
                                  </p:stCondLst>
                                  <p:iterate type="lt">
                                    <p:tmAbs val="75"/>
                                  </p:iterate>
                                  <p:childTnLst>
                                    <p:set>
                                      <p:cBhvr>
                                        <p:cTn id="1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15" dur="75"/>
                                        <p:tgtEl>
                                          <p:spTgt spid="165">
                                            <p:txEl>
                                              <p:pRg st="0" end="0"/>
                                            </p:txEl>
                                          </p:spTgt>
                                        </p:tgtEl>
                                      </p:cBhvr>
                                    </p:animEffect>
                                  </p:childTnLst>
                                </p:cTn>
                              </p:par>
                            </p:childTnLst>
                          </p:cTn>
                        </p:par>
                        <p:par>
                          <p:cTn id="16" fill="hold">
                            <p:stCondLst>
                              <p:cond delay="2775"/>
                            </p:stCondLst>
                            <p:childTnLst>
                              <p:par>
                                <p:cTn id="17" nodeType="afterEffect" fill="hold" presetClass="entr" presetID="22" presetSubtype="1">
                                  <p:stCondLst>
                                    <p:cond delay="0"/>
                                  </p:stCondLst>
                                  <p:iterate type="lt">
                                    <p:tmAbs val="75"/>
                                  </p:iterate>
                                  <p:childTnLst>
                                    <p:set>
                                      <p:cBhvr>
                                        <p:cTn id="18"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19" dur="75"/>
                                        <p:tgtEl>
                                          <p:spTgt spid="165">
                                            <p:txEl>
                                              <p:pRg st="1" end="1"/>
                                            </p:txEl>
                                          </p:spTgt>
                                        </p:tgtEl>
                                      </p:cBhvr>
                                    </p:animEffect>
                                  </p:childTnLst>
                                </p:cTn>
                              </p:par>
                            </p:childTnLst>
                          </p:cTn>
                        </p:par>
                        <p:par>
                          <p:cTn id="20" fill="hold">
                            <p:stCondLst>
                              <p:cond delay="5700"/>
                            </p:stCondLst>
                            <p:childTnLst>
                              <p:par>
                                <p:cTn id="21" nodeType="afterEffect" fill="hold" presetClass="entr" presetID="22" presetSubtype="1">
                                  <p:stCondLst>
                                    <p:cond delay="0"/>
                                  </p:stCondLst>
                                  <p:iterate type="lt">
                                    <p:tmAbs val="75"/>
                                  </p:iterate>
                                  <p:childTnLst>
                                    <p:set>
                                      <p:cBhvr>
                                        <p:cTn id="22"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3" dur="75"/>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6:57:34Z</dcterms:created>
  <dc:creator>NSSD112</dc:creator>
  <dc:description/>
  <dc:language>en-US</dc:language>
  <cp:lastModifiedBy>NSSD112</cp:lastModifiedBy>
  <dcterms:modified xsi:type="dcterms:W3CDTF">2009-01-05T17:48:04Z</dcterms:modified>
  <cp:revision>3</cp:revision>
  <dc:subject/>
  <dc:title>The Misfits by James Howe</dc:title>
</cp:coreProperties>
</file>