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A7C-EF8E-443B-A9BD-AD0B1DE3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29C-8A47-431C-B1EB-812F625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789-B580-4C17-932A-226DABA6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5B7-2F98-4C0A-B510-62E7BBFC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EE79-8C0E-4D18-A73E-4C04E713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F12D-A49A-4B38-93A3-02ACA59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7C65-7A0F-41E8-8BE9-46A2113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595A-80E6-4495-8929-4FAFC2E9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1D31-BA99-4662-BF23-06F45EE0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E5B3-4249-414A-86A2-9254C16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8F5-B40C-4619-BC81-DDA966AB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30AB-FE72-42B9-B37B-25587AD0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F5BD-A200-4229-B5F8-229934E2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4AD-A353-4305-A987-A31F3D1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F270-4866-403F-8424-32C2B14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3CC6-E20A-4E50-A56C-D3A24D6D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D750-9DC9-4FA1-8135-FBF7F2D3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DC5-6B49-4978-A801-81EB211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07C-6FC9-4DC7-9891-11A802E4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DBA-354D-48AB-B8F7-32801098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6DD-7303-478A-8440-02F4CCAD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C92-3828-4B1C-A60E-8F2E7D4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775-A3A6-4E09-8C3F-218D71F8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63A-9D1F-4BC7-A7F3-0490EB95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297-E826-45FF-B3EE-C4F280B25788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409E-353E-40D7-A48F-EE344E3D3C7A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 Collective Noun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  word t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grou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1563840"/>
            <a:ext cx="32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team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.  Nouns have Numb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1.  singular - 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plural -  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See your rule sheet in your spi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]\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Feminine - girl 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-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2. Masculine - man 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3.  Neuter - no 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Ex: desk, chai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gender but not shown -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E.  Uses of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Subject of  the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  Def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 Noun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who or w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ntenc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b.  Steps to locate the su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1.    Find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o  or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at does the verb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jump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liste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sit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For example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        </a:t>
            </a: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noun/</a:t>
            </a:r>
            <a:r>
              <a:rPr b="1" sz="6000" spc="-1" strike="noStrike" u="sng">
                <a:solidFill>
                  <a:srgbClr val="000000"/>
                </a:solidFill>
                <a:uFillTx/>
                <a:latin typeface="Times New Roman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6000" spc="-1" strike="noStrike" baseline="30000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6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opped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at the pool.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.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noun </a:t>
            </a:r>
            <a:r>
              <a:rPr b="1" sz="6600" spc="-1" strike="noStrike">
                <a:solidFill>
                  <a:srgbClr val="0000dd"/>
                </a:solidFill>
                <a:latin typeface="Times New Roman"/>
              </a:rPr>
              <a:t>names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person,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                      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thing,or...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 of S-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 Dad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Brian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Times New Roman"/>
              </a:rPr>
              <a:t>were sitting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on the cou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Another Example…verb/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 nou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 steps wal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essi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Becc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Still another 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nou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verb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V separ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S               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4800" spc="-1" strike="noStrike" baseline="30000">
                <a:solidFill>
                  <a:srgbClr val="23100d"/>
                </a:solidFill>
                <a:latin typeface="Times New Roman"/>
              </a:rPr>
              <a:t>books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on the third shelf </a:t>
            </a:r>
            <a:r>
              <a:rPr b="1" sz="4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fell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o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flo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USES OF NOUNS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2. Nouns as the OBJECT in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it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UBJECT = (y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VERB = h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-V…..WHAT?    D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direct object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and the noun that gets the a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Object of the  preposi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We went </a:t>
            </a:r>
            <a:r>
              <a:rPr b="1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the </a:t>
            </a:r>
            <a:r>
              <a:rPr b="1" sz="5400" spc="-1" strike="noStrike" u="sng">
                <a:solidFill>
                  <a:srgbClr val="dd0000"/>
                </a:solidFill>
                <a:uFillTx/>
                <a:latin typeface="Times New Roman"/>
              </a:rPr>
              <a:t>park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believe this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F.  Nouns made from              </a:t>
            </a:r>
            <a:r>
              <a:rPr b="1" sz="8800" spc="-1" strike="noStrike">
                <a:solidFill>
                  <a:srgbClr val="000000"/>
                </a:solidFill>
                <a:latin typeface="Times New Roman"/>
              </a:rPr>
              <a:t>verbs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Ge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rund is a VERB FOR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IN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 A NOU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Runn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is my favor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por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especially love  </a:t>
            </a:r>
            <a:r>
              <a:rPr b="1" lang="en-US" sz="4400" spc="-1" strike="noStrike">
                <a:solidFill>
                  <a:srgbClr val="dd0000"/>
                </a:solidFill>
                <a:latin typeface="Times New Roman"/>
              </a:rPr>
              <a:t>hik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    Octo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DEA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eventh graders are very good at the skill of 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sleep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Infini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n infinitive is a noun      formed by usi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to  +   ( verb)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44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run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s good for the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I love 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sleep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n a tent in the r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660099"/>
                </a:solidFill>
                <a:latin typeface="Times New Roman"/>
              </a:rPr>
              <a:t>B.   TYPES OF  Nou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1.  Common (general name for a noun)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   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Proper (more specific name for a nou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 baseline="30000">
                <a:solidFill>
                  <a:srgbClr val="000000"/>
                </a:solidFill>
                <a:latin typeface="Times New Roman"/>
              </a:rPr>
              <a:t>(These are the two MAIN type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. Common: 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errior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.  Proper: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J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**Proper nouns are always capitalized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.  Abstract or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. Abstract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Examples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Abstract nouns can not be touched, tasted, smelled, heard or seen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 Concrete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Compound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dge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College  Counseling 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3680" y="54864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 noun that is made up of two or more word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see attached, glued in note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7:14:16Z</dcterms:created>
  <dc:creator>nssd112</dc:creator>
  <dc:description/>
  <dc:language>en-US</dc:language>
  <cp:lastModifiedBy>NSSD112</cp:lastModifiedBy>
  <dcterms:modified xsi:type="dcterms:W3CDTF">2009-10-13T16:26:53Z</dcterms:modified>
  <cp:revision>65</cp:revision>
  <dc:subject/>
  <dc:title>EIGHT PARTS OF SPEECH</dc:title>
</cp:coreProperties>
</file>