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76C-5EB7-4DDB-841B-EAB3B532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A32-1CFC-443B-99C8-041C32DE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D03-7C27-478E-B4C0-31D969FC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4F7-7406-48B7-B0F5-407C12B0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4B1A-A312-454F-AFF0-12FD2806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0305-E2D5-4D9D-B0BD-A5D5F5F7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DB7B-A2DD-476F-9960-1C1A5280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0A95-C757-4856-BA52-6CD37475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BB71-861A-44C7-A139-A5151612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E02E-5500-41EF-9C6C-FB5C90CE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733E-1D25-4E63-AB90-D7813ABC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4C4-56E6-4DBB-A41D-7B8026DB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4043-CAFD-4B81-BFD9-E0D076B4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1046-73F7-403F-B0E4-B696F408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513B-475C-4ACC-A5A6-55462CA8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BCE8-A5FA-4794-AFA1-D8DC07CE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6FD3-8D1C-47A3-BAB4-F9C8E891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FB4-24EB-457B-8368-E698BC71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99B-06E2-4795-AB8A-9B1A6477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868-F5FC-4ECC-9113-A5247414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9EE-0F32-43BF-B270-CF402D4A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84E-C2BF-49AC-B9BC-F54D90BA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A29-C52D-406E-9EE2-96EFAE72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A23-41A8-4265-A70D-8BAC466E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748D-8CA2-48D0-91F8-D05FD6362281}" type="slidenum">
              <a: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6656-A9DA-4E76-9F2E-EAFD9D663419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 PARTS OF SPEE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 Collective Noun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  word t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ul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ames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grou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0240" y="1563840"/>
            <a:ext cx="327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team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orche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.  Nouns have Numb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1.  singular - 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plural -  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See your rule sheet in your spi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]\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Feminine - girl 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-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2. Masculine - man 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3.  Neuter - no ge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Ex: desk, chai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a gender but not shown - DO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E.  Uses of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Subject of  the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.  Def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 Noun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who or what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entence i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u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b.  Steps to locate the subjec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1.    Find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o  or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at does the verb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jump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listen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sit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For example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        </a:t>
            </a: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noun/</a:t>
            </a:r>
            <a:r>
              <a:rPr b="1" sz="6000" spc="-1" strike="noStrike" u="sng">
                <a:solidFill>
                  <a:srgbClr val="000000"/>
                </a:solidFill>
                <a:uFillTx/>
                <a:latin typeface="Times New Roman"/>
              </a:rPr>
              <a:t>ver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6000" spc="-1" strike="noStrike" baseline="30000">
                <a:solidFill>
                  <a:srgbClr val="ff0000"/>
                </a:solidFill>
                <a:latin typeface="Times New Roman"/>
              </a:rPr>
              <a:t>girls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6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opped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at the pool.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. 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.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noun </a:t>
            </a:r>
            <a:r>
              <a:rPr b="1" sz="6600" spc="-1" strike="noStrike">
                <a:solidFill>
                  <a:srgbClr val="0000dd"/>
                </a:solidFill>
                <a:latin typeface="Times New Roman"/>
              </a:rPr>
              <a:t>names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person,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                      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thing,or...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example of S-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 Dad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Brian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u="sng">
                <a:solidFill>
                  <a:srgbClr val="000000"/>
                </a:solidFill>
                <a:uFillTx/>
                <a:latin typeface="Times New Roman"/>
              </a:rPr>
              <a:t>were sitting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on the cou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Another Example…verb/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 nou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the steps walke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Jessi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Becc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Still another Example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nou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verb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pa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-V separa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S                                                           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4800" spc="-1" strike="noStrike" baseline="30000">
                <a:solidFill>
                  <a:srgbClr val="23100d"/>
                </a:solidFill>
                <a:latin typeface="Times New Roman"/>
              </a:rPr>
              <a:t>books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on the third shelf </a:t>
            </a:r>
            <a:r>
              <a:rPr b="1" sz="4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fell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o t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flo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USES OF NOUNS 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2. Nouns as the OBJECT in the sent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it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UBJECT = (yo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VERB = h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-V…..WHAT?    D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direct object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and the noun that gets the a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 Object of the  preposi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We went </a:t>
            </a:r>
            <a:r>
              <a:rPr b="1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the </a:t>
            </a:r>
            <a:r>
              <a:rPr b="1" sz="5400" spc="-1" strike="noStrike" u="sng">
                <a:solidFill>
                  <a:srgbClr val="dd0000"/>
                </a:solidFill>
                <a:uFillTx/>
                <a:latin typeface="Times New Roman"/>
              </a:rPr>
              <a:t>park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 you believe this?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F.  Nouns made from              </a:t>
            </a:r>
            <a:r>
              <a:rPr b="1" sz="8800" spc="-1" strike="noStrike">
                <a:solidFill>
                  <a:srgbClr val="000000"/>
                </a:solidFill>
                <a:latin typeface="Times New Roman"/>
              </a:rPr>
              <a:t>verbs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 Ger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rund is a VERB FOR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IN 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ING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 A NOUN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Runn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is my favor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por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especially love  </a:t>
            </a:r>
            <a:r>
              <a:rPr b="1" lang="en-US" sz="4400" spc="-1" strike="noStrike">
                <a:solidFill>
                  <a:srgbClr val="dd0000"/>
                </a:solidFill>
                <a:latin typeface="Times New Roman"/>
              </a:rPr>
              <a:t>hik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in     Octo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DEA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eventh graders are very good at the skill of 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sleep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 Infini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n infinitive is a noun      formed by using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to  +   ( verb)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44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run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s good for the he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I love 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sleep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n a tent in the r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660099"/>
                </a:solidFill>
                <a:latin typeface="Times New Roman"/>
              </a:rPr>
              <a:t>B.   TYPES OF  Nou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1.  Common (general name for a noun)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   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Proper (more specific name for a nou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 baseline="30000">
                <a:solidFill>
                  <a:srgbClr val="000000"/>
                </a:solidFill>
                <a:latin typeface="Times New Roman"/>
              </a:rPr>
              <a:t>(These are the two MAIN types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Example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. Common: 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errior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.  Proper: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J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**Proper nouns are always capitalized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.  Abstract or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. Abstract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Examples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Abstract nouns can not be touched, tasted, smelled, heard or seen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.  Concrete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Compound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ookstore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dge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College  Counseling  Ce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3680" y="54864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a noun that is made up of two or more word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see attached, glued in note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7:14:16Z</dcterms:created>
  <dc:creator>nssd112</dc:creator>
  <dc:description/>
  <dc:language>en-US</dc:language>
  <cp:lastModifiedBy>NSSD112</cp:lastModifiedBy>
  <dcterms:modified xsi:type="dcterms:W3CDTF">2009-10-13T16:26:53Z</dcterms:modified>
  <cp:revision>65</cp:revision>
  <dc:subject/>
  <dc:title>EIGHT PARTS OF SPEECH</dc:title>
</cp:coreProperties>
</file>