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E60-A8A5-46BC-803D-6FF5AD59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736-D374-4230-A10A-F942BDE4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9186-C1C6-407F-BC15-863EB648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C2C-B54C-4670-AF33-DB39D7FC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09B1-CC57-4177-A864-834FED62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5F41-A80A-4510-B1A4-F07AF217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206B-F1DA-410E-B64E-A21F01C2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9DCB-EDF8-4F76-8794-733E3DC7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D601-5A1E-4568-B3EA-29F39913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0F9A-FB0D-4568-BDDF-65709460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96AD-9408-47DD-BA45-4E26986A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75E-E03C-4306-B948-E839561F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2A88-9B41-438D-BA47-9647D909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F43D-5097-4546-86BF-20A0A0A8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F5E0-899F-4170-BA93-17A29855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B13F-764D-45E5-AB40-04AF4AEC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A3A2-4802-4CCD-9E83-0320513E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968-814F-4FEB-B3D8-EA395FD7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8B8-ABA9-483A-9970-0DDEB4AF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CC62-489B-4604-AF52-2C063B82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5FE-4AEE-43E8-B397-4ED0EF94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3EB-C2CC-49A0-AA73-29F7247A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B4D-A920-45C2-83FF-B2952D14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BD5-8F68-4F2B-9386-5F6EE457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7BBB-AB92-4742-8DCC-1189C7B33E8F}" type="slidenum">
              <a: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E301-5DC1-4120-882E-A1F03A1F873D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HT PARTS OF SPEE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 Collective Noun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ne   word that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ngula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ames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group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0240" y="1563840"/>
            <a:ext cx="327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team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orches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faculty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he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C.  Nouns have Number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1.  singular - 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plural -  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(See your rule sheet in your spir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.  Nouns have  Ge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Feminine -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2. Masculine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3.  Neuter -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.  Nouns have  Ge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Feminine -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2. Masculine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3.  Neuter -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]\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bad41a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Feminine - girl 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-MOM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2. Masculine - man 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3.  Neuter - no ge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Ex: desk, chai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  Indefinite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 a gender but not shown - DO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E.  Uses of 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Subject of  the sent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.  Def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  Noun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ll who or what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entence i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ou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b.  Steps to locate the subjec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1.    Find ver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ho  or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what does the verb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jump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listen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who sits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For example: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dd0000"/>
                </a:solidFill>
                <a:latin typeface="Times New Roman"/>
              </a:rPr>
              <a:t>        </a:t>
            </a:r>
            <a:r>
              <a:rPr b="1" sz="6000" spc="-1" strike="noStrike">
                <a:solidFill>
                  <a:srgbClr val="dd0000"/>
                </a:solidFill>
                <a:latin typeface="Times New Roman"/>
              </a:rPr>
              <a:t>noun/</a:t>
            </a:r>
            <a:r>
              <a:rPr b="1" sz="6000" spc="-1" strike="noStrike" u="sng">
                <a:solidFill>
                  <a:srgbClr val="000000"/>
                </a:solidFill>
                <a:uFillTx/>
                <a:latin typeface="Times New Roman"/>
              </a:rPr>
              <a:t>ver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The </a:t>
            </a:r>
            <a:r>
              <a:rPr b="1" sz="6000" spc="-1" strike="noStrike" baseline="30000">
                <a:solidFill>
                  <a:srgbClr val="ff0000"/>
                </a:solidFill>
                <a:latin typeface="Times New Roman"/>
              </a:rPr>
              <a:t>girls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6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opped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 at the pool.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6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.  NOU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.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 noun </a:t>
            </a:r>
            <a:r>
              <a:rPr b="1" sz="6600" spc="-1" strike="noStrike">
                <a:solidFill>
                  <a:srgbClr val="0000dd"/>
                </a:solidFill>
                <a:latin typeface="Times New Roman"/>
              </a:rPr>
              <a:t>names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a person, 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                       </a:t>
            </a:r>
            <a:r>
              <a:rPr b="1" sz="3200" spc="-1" strike="noStrike">
                <a:solidFill>
                  <a:srgbClr val="0000dd"/>
                </a:solidFill>
                <a:latin typeface="Times New Roman"/>
              </a:rPr>
              <a:t>thing,or...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d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 example of S-V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Mom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 Dad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sz="4800" spc="-1" strike="noStrike">
                <a:solidFill>
                  <a:srgbClr val="dd0000"/>
                </a:solidFill>
                <a:latin typeface="Times New Roman"/>
              </a:rPr>
              <a:t>Brian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u="sng">
                <a:solidFill>
                  <a:srgbClr val="000000"/>
                </a:solidFill>
                <a:uFillTx/>
                <a:latin typeface="Times New Roman"/>
              </a:rPr>
              <a:t>were sitting</a:t>
            </a:r>
            <a:r>
              <a:rPr b="1" sz="4800" spc="-1" strike="noStrike">
                <a:solidFill>
                  <a:srgbClr val="000000"/>
                </a:solidFill>
                <a:latin typeface="Times New Roman"/>
              </a:rPr>
              <a:t> on the couc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Another Example…verb/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 nou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p the steps walke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Jessi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Becc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Still another Example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nou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/verb</a:t>
            </a:r>
            <a:r>
              <a:rPr b="1" lang="en-US" sz="4800" spc="-1" strike="noStrike">
                <a:solidFill>
                  <a:srgbClr val="dd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para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-V separa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 baseline="30000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3200" spc="-1" strike="noStrike" baseline="30000">
                <a:solidFill>
                  <a:srgbClr val="000000"/>
                </a:solidFill>
                <a:latin typeface="Times New Roman"/>
              </a:rPr>
              <a:t>S                                                           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The </a:t>
            </a:r>
            <a:r>
              <a:rPr b="1" sz="4800" spc="-1" strike="noStrike" baseline="30000">
                <a:solidFill>
                  <a:srgbClr val="23100d"/>
                </a:solidFill>
                <a:latin typeface="Times New Roman"/>
              </a:rPr>
              <a:t>books 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on the third shelf </a:t>
            </a:r>
            <a:r>
              <a:rPr b="1" sz="4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fell 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to t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flo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(USES OF NOUNS 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2. Nouns as the OBJECT in the sente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Hit the 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ball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SUBJECT = (yo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VERB = h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S-V…..WHAT?    D.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Ball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sz="4000" spc="-1" strike="noStrike">
                <a:solidFill>
                  <a:srgbClr val="dd0000"/>
                </a:solidFill>
                <a:latin typeface="Times New Roman"/>
              </a:rPr>
              <a:t>direct object 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and the noun that gets the a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 Object of the  preposi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We went </a:t>
            </a:r>
            <a:r>
              <a:rPr b="1" sz="5400" spc="-1" strike="noStrike" u="sng">
                <a:solidFill>
                  <a:srgbClr val="000000"/>
                </a:solidFill>
                <a:uFillTx/>
                <a:latin typeface="Times New Roman"/>
              </a:rPr>
              <a:t>to the </a:t>
            </a:r>
            <a:r>
              <a:rPr b="1" sz="5400" spc="-1" strike="noStrike" u="sng">
                <a:solidFill>
                  <a:srgbClr val="dd0000"/>
                </a:solidFill>
                <a:uFillTx/>
                <a:latin typeface="Times New Roman"/>
              </a:rPr>
              <a:t>park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 you believe this?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000000"/>
                </a:solidFill>
                <a:latin typeface="Times New Roman"/>
              </a:rPr>
              <a:t>F.  Nouns made from              </a:t>
            </a:r>
            <a:r>
              <a:rPr b="1" sz="8800" spc="-1" strike="noStrike">
                <a:solidFill>
                  <a:srgbClr val="000000"/>
                </a:solidFill>
                <a:latin typeface="Times New Roman"/>
              </a:rPr>
              <a:t>verbs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 Geru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rund is a VERB FOR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ING IN  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ING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 A NOUN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Running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is my favor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spor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especially love  </a:t>
            </a:r>
            <a:r>
              <a:rPr b="1" lang="en-US" sz="4400" spc="-1" strike="noStrike">
                <a:solidFill>
                  <a:srgbClr val="dd0000"/>
                </a:solidFill>
                <a:latin typeface="Times New Roman"/>
              </a:rPr>
              <a:t>hik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in     Octo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IDEA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Seventh graders are very good at the skill of </a:t>
            </a: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sleeping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 Infini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An infinitive is a noun      formed by using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dd0000"/>
                </a:solidFill>
                <a:latin typeface="Times New Roman"/>
              </a:rPr>
              <a:t>to  +   ( verb)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44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To run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is good for the he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I love </a:t>
            </a:r>
            <a:r>
              <a:rPr b="1" sz="4400" spc="-1" strike="noStrike">
                <a:solidFill>
                  <a:srgbClr val="dd0000"/>
                </a:solidFill>
                <a:latin typeface="Times New Roman"/>
              </a:rPr>
              <a:t>to sleep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 in a tent in the r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660099"/>
                </a:solidFill>
                <a:latin typeface="Times New Roman"/>
              </a:rPr>
              <a:t>B.   TYPES OF  Noun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1.  Common (general name for a noun)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   </a:t>
            </a:r>
            <a:r>
              <a:rPr b="1" sz="5400" spc="-1" strike="noStrike">
                <a:solidFill>
                  <a:srgbClr val="660099"/>
                </a:solidFill>
                <a:latin typeface="Times New Roman"/>
              </a:rPr>
              <a:t>Proper (more specific name for a nou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 baseline="30000">
                <a:solidFill>
                  <a:srgbClr val="000000"/>
                </a:solidFill>
                <a:latin typeface="Times New Roman"/>
              </a:rPr>
              <a:t>(These are the two MAIN types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Example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a. Common: 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terrior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         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.  Proper: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Jen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Hinduism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          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**Proper nouns are always capitalized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.  Abstract or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a. Abstract 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5400" spc="-1" strike="noStrike">
                <a:solidFill>
                  <a:srgbClr val="000000"/>
                </a:solidFill>
                <a:latin typeface="Times New Roman"/>
              </a:rPr>
              <a:t>Examples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Abstract nouns can not be touched, tasted, smelled, heard or seen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.  Concrete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d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Compound Nou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bookstore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Edge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4800" spc="-1" strike="noStrike" baseline="30000">
                <a:solidFill>
                  <a:srgbClr val="000000"/>
                </a:solidFill>
                <a:latin typeface="Times New Roman"/>
              </a:rPr>
              <a:t>College  Counseling  Cen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3680" y="548640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a noun that is made up of two or more words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see attached, glued in notes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7:14:16Z</dcterms:created>
  <dc:creator>nssd112</dc:creator>
  <dc:description/>
  <dc:language>en-US</dc:language>
  <cp:lastModifiedBy>NSSD112</cp:lastModifiedBy>
  <dcterms:modified xsi:type="dcterms:W3CDTF">2009-10-13T16:26:53Z</dcterms:modified>
  <cp:revision>65</cp:revision>
  <dc:subject/>
  <dc:title>EIGHT PARTS OF SPEECH</dc:title>
</cp:coreProperties>
</file>