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20DC-1F80-47D6-921A-C0D31939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F802-2EF5-45E4-B5DB-5AB048BB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3C1B-2504-4CC5-8D9B-23F1B9603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A9B6-5FB5-45C8-8DC2-782109374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C36A-E9A0-4A33-9A40-C8FE383E8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37C9-92CB-45B0-A818-C5AF393C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7A06-634E-4CC9-844D-4458D17A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FD78-4354-46AF-ABA1-10CDF39B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E184-EE3E-4879-A7E9-D124D54C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7AE9-5B82-44C0-9EEB-6CD40211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6E76-7345-41A0-AF63-76CF79E7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534A-F53B-40E3-A583-45CFDEDB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92C0-086B-49B3-9454-6AD2FFD5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0BC6-0FFB-4AEF-92B7-C43CCC15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64E6-2BC0-4C5D-97E3-D78B7FE3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68A2-568C-4E13-95B2-D82858EC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77BE-F1FE-48D2-9FA1-EE97BB8C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57CD-253D-4201-A6CC-A4726256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B98F-B531-4362-9CAD-A55EEBC0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71E7-84D7-4C62-8084-3102A27B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A99F-1CEB-466E-99F2-6E1686E0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C5EE-F759-48AF-BBC1-10B10577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6CB3-AD4A-47A0-81F8-AB0D6C19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2101-7701-4DF9-8ACB-3691E7C4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1" name="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560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3960" y="3888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aa9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14240" y="5428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54f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647640" y="10663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79b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557B-75C3-45F1-AC6A-5A56FAE164AD}" type="slidenum">
              <a:rPr b="0" lang="en-US" sz="1400" spc="-1" strike="noStrike">
                <a:solidFill>
                  <a:srgbClr val="5b87f2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9932-FFE2-45F0-896D-1D9D208D98B2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51" name="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560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3960" y="24462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aa9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4240" y="26002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54f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47640" y="31237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79b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IGHT PARTS OF SPEE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  Collective Noun -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e   word that i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ingula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ames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 group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30240" y="1563840"/>
            <a:ext cx="327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team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class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orchest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faculty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he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C.  Nouns have Number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1.  singular - 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plural -   child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(See your rule sheet in your spir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.  Nouns have  Gen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bad41a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Feminine -  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2. Masculine -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3.  Neuter -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.  Indefinite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.  Nouns have  Gen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bad41a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Feminine -  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2. Masculine -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3.  Neuter -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.  Indefinite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]\+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199"/>
              </a:spcBef>
              <a:buClr>
                <a:srgbClr val="bad41a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Feminine - girl 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-MOM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2. Masculine - man D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3.  Neuter - no gen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Ex: desk, chai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.  Indefinite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s a gender but not shown - DO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6000" spc="-1" strike="noStrike">
                <a:solidFill>
                  <a:srgbClr val="000000"/>
                </a:solidFill>
                <a:latin typeface="Times New Roman"/>
              </a:rPr>
              <a:t>E.  Uses of nou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Subject of  the sentenc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.  Def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=  Nouns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ll who or what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entence is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bou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b.  Steps to locate the subjec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1.    Find ver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Who  or 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what does the verb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(who jumps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(who listens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(who sits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For example: 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>
                <a:solidFill>
                  <a:srgbClr val="dd0000"/>
                </a:solidFill>
                <a:latin typeface="Times New Roman"/>
              </a:rPr>
              <a:t>        </a:t>
            </a:r>
            <a:r>
              <a:rPr b="1" sz="6000" spc="-1" strike="noStrike">
                <a:solidFill>
                  <a:srgbClr val="dd0000"/>
                </a:solidFill>
                <a:latin typeface="Times New Roman"/>
              </a:rPr>
              <a:t>noun/</a:t>
            </a:r>
            <a:r>
              <a:rPr b="1" sz="6000" spc="-1" strike="noStrike" u="sng">
                <a:solidFill>
                  <a:srgbClr val="000000"/>
                </a:solidFill>
                <a:uFillTx/>
                <a:latin typeface="Times New Roman"/>
              </a:rPr>
              <a:t>ver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The </a:t>
            </a:r>
            <a:r>
              <a:rPr b="1" sz="6000" spc="-1" strike="noStrike" baseline="30000">
                <a:solidFill>
                  <a:srgbClr val="ff0000"/>
                </a:solidFill>
                <a:latin typeface="Times New Roman"/>
              </a:rPr>
              <a:t>girls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60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stopped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 at the pool.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.  NOU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A.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A noun </a:t>
            </a:r>
            <a:r>
              <a:rPr b="1" sz="6600" spc="-1" strike="noStrike">
                <a:solidFill>
                  <a:srgbClr val="0000dd"/>
                </a:solidFill>
                <a:latin typeface="Times New Roman"/>
              </a:rPr>
              <a:t>names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a person, 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                       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thing,or...</a:t>
            </a:r>
            <a:r>
              <a:rPr b="1" sz="2000" spc="-1" strike="noStrike">
                <a:solidFill>
                  <a:srgbClr val="0000dd"/>
                </a:solidFill>
                <a:latin typeface="Times New Roman"/>
              </a:rPr>
              <a:t> </a:t>
            </a:r>
            <a:r>
              <a:rPr b="1" sz="20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d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other example of S-V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dd0000"/>
                </a:solidFill>
                <a:latin typeface="Times New Roman"/>
              </a:rPr>
              <a:t>Mom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sz="4800" spc="-1" strike="noStrike">
                <a:solidFill>
                  <a:srgbClr val="dd0000"/>
                </a:solidFill>
                <a:latin typeface="Times New Roman"/>
              </a:rPr>
              <a:t> Dad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sz="4800" spc="-1" strike="noStrike">
                <a:solidFill>
                  <a:srgbClr val="dd0000"/>
                </a:solidFill>
                <a:latin typeface="Times New Roman"/>
              </a:rPr>
              <a:t>Brian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 u="sng">
                <a:solidFill>
                  <a:srgbClr val="000000"/>
                </a:solidFill>
                <a:uFillTx/>
                <a:latin typeface="Times New Roman"/>
              </a:rPr>
              <a:t>were sitting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 on the couc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Another Example…verb/</a:t>
            </a:r>
            <a:r>
              <a:rPr b="1" sz="4400" spc="-1" strike="noStrike">
                <a:solidFill>
                  <a:srgbClr val="dd0000"/>
                </a:solidFill>
                <a:latin typeface="Times New Roman"/>
              </a:rPr>
              <a:t> nou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 the steps walke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Jessi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4800" spc="-1" strike="noStrike">
                <a:solidFill>
                  <a:srgbClr val="dd0000"/>
                </a:solidFill>
                <a:latin typeface="Times New Roman"/>
              </a:rPr>
              <a:t>Becca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Still another Example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dd0000"/>
                </a:solidFill>
                <a:latin typeface="Times New Roman"/>
              </a:rPr>
              <a:t>nou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/verb</a:t>
            </a:r>
            <a:r>
              <a:rPr b="1" lang="en-US" sz="4800" spc="-1" strike="noStrike">
                <a:solidFill>
                  <a:srgbClr val="dd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para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-V separat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 baseline="30000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sz="3200" spc="-1" strike="noStrike" baseline="30000">
                <a:solidFill>
                  <a:srgbClr val="000000"/>
                </a:solidFill>
                <a:latin typeface="Times New Roman"/>
              </a:rPr>
              <a:t>S                                                           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The </a:t>
            </a:r>
            <a:r>
              <a:rPr b="1" sz="4800" spc="-1" strike="noStrike" baseline="30000">
                <a:solidFill>
                  <a:srgbClr val="23100d"/>
                </a:solidFill>
                <a:latin typeface="Times New Roman"/>
              </a:rPr>
              <a:t>books 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on the third shelf </a:t>
            </a:r>
            <a:r>
              <a:rPr b="1" sz="4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fell 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to t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floor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(USES OF NOUNS 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2. Nouns as the OBJECT in the sente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Hit the </a:t>
            </a:r>
            <a:r>
              <a:rPr b="1" sz="4000" spc="-1" strike="noStrike">
                <a:solidFill>
                  <a:srgbClr val="dd0000"/>
                </a:solidFill>
                <a:latin typeface="Times New Roman"/>
              </a:rPr>
              <a:t>ball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SUBJECT = (you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VERB = h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S-V…..WHAT?    D.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dd0000"/>
                </a:solidFill>
                <a:latin typeface="Times New Roman"/>
              </a:rPr>
              <a:t>Ball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sz="4000" spc="-1" strike="noStrike">
                <a:solidFill>
                  <a:srgbClr val="dd0000"/>
                </a:solidFill>
                <a:latin typeface="Times New Roman"/>
              </a:rPr>
              <a:t>direct object 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and the noun that gets the ac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 Object of the  prepositio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We went </a:t>
            </a:r>
            <a:r>
              <a:rPr b="1" sz="5400" spc="-1" strike="noStrike" u="sng">
                <a:solidFill>
                  <a:srgbClr val="000000"/>
                </a:solidFill>
                <a:uFillTx/>
                <a:latin typeface="Times New Roman"/>
              </a:rPr>
              <a:t>to the </a:t>
            </a:r>
            <a:r>
              <a:rPr b="1" sz="5400" spc="-1" strike="noStrike" u="sng">
                <a:solidFill>
                  <a:srgbClr val="dd0000"/>
                </a:solidFill>
                <a:uFillTx/>
                <a:latin typeface="Times New Roman"/>
              </a:rPr>
              <a:t>park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n you believe this???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>
                <a:solidFill>
                  <a:srgbClr val="000000"/>
                </a:solidFill>
                <a:latin typeface="Times New Roman"/>
              </a:rPr>
              <a:t>F.  Nouns made from              </a:t>
            </a:r>
            <a:r>
              <a:rPr b="1" sz="8800" spc="-1" strike="noStrike">
                <a:solidFill>
                  <a:srgbClr val="000000"/>
                </a:solidFill>
                <a:latin typeface="Times New Roman"/>
              </a:rPr>
              <a:t>verbs!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.  Gerun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erund is a VERB FORM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ING IN     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ING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S A NOUN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dd0000"/>
                </a:solidFill>
                <a:latin typeface="Times New Roman"/>
              </a:rPr>
              <a:t>Running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 is my favori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spor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especially love  </a:t>
            </a:r>
            <a:r>
              <a:rPr b="1" lang="en-US" sz="4400" spc="-1" strike="noStrike">
                <a:solidFill>
                  <a:srgbClr val="dd0000"/>
                </a:solidFill>
                <a:latin typeface="Times New Roman"/>
              </a:rPr>
              <a:t>hikin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in     Octob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IDEA!!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Seventh graders are very good at the skill of </a:t>
            </a:r>
            <a:r>
              <a:rPr b="1" sz="5400" spc="-1" strike="noStrike">
                <a:solidFill>
                  <a:srgbClr val="dd0000"/>
                </a:solidFill>
                <a:latin typeface="Times New Roman"/>
              </a:rPr>
              <a:t>sleeping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 Infiniti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An infinitive is a noun      formed by using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dd0000"/>
                </a:solidFill>
                <a:latin typeface="Times New Roman"/>
              </a:rPr>
              <a:t>to  +   ( verb)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44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dd0000"/>
                </a:solidFill>
                <a:latin typeface="Times New Roman"/>
              </a:rPr>
              <a:t>To run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 is good for the hear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I love </a:t>
            </a:r>
            <a:r>
              <a:rPr b="1" sz="4400" spc="-1" strike="noStrike">
                <a:solidFill>
                  <a:srgbClr val="dd0000"/>
                </a:solidFill>
                <a:latin typeface="Times New Roman"/>
              </a:rPr>
              <a:t>to sleep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 in a tent in the ra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660099"/>
                </a:solidFill>
                <a:latin typeface="Times New Roman"/>
              </a:rPr>
              <a:t>B.   TYPES OF  Noun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660099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660099"/>
                </a:solidFill>
                <a:latin typeface="Times New Roman"/>
              </a:rPr>
              <a:t>1.  Common (general name for a noun)</a:t>
            </a:r>
            <a:r>
              <a:rPr b="1" sz="5400" spc="-1" strike="noStrike">
                <a:solidFill>
                  <a:srgbClr val="660099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660099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660099"/>
                </a:solidFill>
                <a:latin typeface="Times New Roman"/>
              </a:rPr>
              <a:t>   </a:t>
            </a:r>
            <a:r>
              <a:rPr b="1" sz="5400" spc="-1" strike="noStrike">
                <a:solidFill>
                  <a:srgbClr val="660099"/>
                </a:solidFill>
                <a:latin typeface="Times New Roman"/>
              </a:rPr>
              <a:t>Proper (more specific name for a noun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 baseline="30000">
                <a:solidFill>
                  <a:srgbClr val="000000"/>
                </a:solidFill>
                <a:latin typeface="Times New Roman"/>
              </a:rPr>
              <a:t>(These are the two MAIN types.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Example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a. Common: 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terrior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           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b.  Proper: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 Jen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Hinduism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           Chic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M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**Proper nouns are always capitalized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.  Abstract or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Concrete Nou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a. Abstract 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Examples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equ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freed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pe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*Abstract nouns can not be touched, tasted, smelled, heard or seen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.  Concrete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de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choco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Compound Nou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bookstore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Edgew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College  Counseling  Cen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3680" y="5486400"/>
            <a:ext cx="66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a noun that is made up of two or more words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*see attached, glued in notes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7:14:16Z</dcterms:created>
  <dc:creator>nssd112</dc:creator>
  <dc:description/>
  <dc:language>en-US</dc:language>
  <cp:lastModifiedBy>NSSD112</cp:lastModifiedBy>
  <dcterms:modified xsi:type="dcterms:W3CDTF">2009-10-13T16:26:53Z</dcterms:modified>
  <cp:revision>65</cp:revision>
  <dc:subject/>
  <dc:title>EIGHT PARTS OF SPEECH</dc:title>
</cp:coreProperties>
</file>