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6C0-2D2D-42AB-9519-E76D0787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CC9-E23A-40BF-8085-35DC375D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108-D3A4-4003-A872-28F79FB6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D96-121F-4914-B2CB-87F5F81C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F909-8030-4B5E-8501-1F0910E7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D41E-E90A-43C9-8954-C4E74861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2453-6559-43BF-A12B-3A90105F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9D57-3E05-4B68-98DC-8201CBBF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A065-6208-4E1F-83AA-3824F901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57B0-DB7E-462C-ABB0-41469627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D6EF-293D-469A-AD7A-31026897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167-4FFB-4F2D-A508-2A2661B7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5ED0-24AC-40AF-A16F-A119139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1F11-C3F2-440E-957C-0C90DC54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E56-311E-4382-A631-EC9DEACF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4E15-B5B9-46A8-9326-A68714CA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58F4-7863-4EFA-A9E3-657A002B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65E-56C1-4D9A-A545-DB2F3978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F9D-831E-4707-82AD-A4A294F6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B2C-2A67-4BCA-89A7-4ECF51E2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45B-29B5-427D-BDC8-944A9ADB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D15-7AA4-4FCD-BEA8-A9E1A8F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2DE-7E41-487E-AA0C-47CF721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08A-82C6-4459-8DF0-786FB28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BF17-63FF-4C8D-8C11-5CFB34AAEFF4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8A7-C60D-4A65-B180-07F5CA0FFF6C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use th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98900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1989000"/>
            <a:ext cx="252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plumb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Jennif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typ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my hairdress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our teac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1989000"/>
            <a:ext cx="428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s good at looking afte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blow dries my hair ever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has a son called S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fixed a leak in our pipes last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orks in a large of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89000"/>
            <a:ext cx="15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s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s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r 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he reached the car park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he was very tire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pite queuing for hours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did our homewor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ited for my brothe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- 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a brief pause with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items in a 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additional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longer sentences into smaller p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numbers into thous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 - 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a is a punctuation m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us to take a brief pause when we are reading – not as long as a full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the most common punctuation mark but has to be used careful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can change the meaning of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,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ing meaning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re is a list of words 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need hammers, nails and a sa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stopped, stared and r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 Cherry was a warm, hospitable 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 frightened the cat, teased the dog and annoyed the neighb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break up longer sentences into smaller parts to make more s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he saw the pirate ship on the horizon, the captain gave the al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called as loudly as she could, but no-one could hear 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separate any extra information that is add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enclosed by the commas could be left out without changing the general meaning of the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ng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our star player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 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who was wearing a blue hat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 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reak up groups of numbers into thous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999,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riting a d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bruary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leaving tomorrow,” said F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47:51Z</dcterms:created>
  <dc:creator>Julie Wiskow</dc:creator>
  <dc:description/>
  <dc:language>en-US</dc:language>
  <cp:lastModifiedBy>Pitchford</cp:lastModifiedBy>
  <dcterms:modified xsi:type="dcterms:W3CDTF">2005-09-25T06:44:30Z</dcterms:modified>
  <cp:revision>6</cp:revision>
  <dc:subject/>
  <dc:title>Commas</dc:title>
</cp:coreProperties>
</file>