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BB6-96D0-4BD4-8A54-8FED6C3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698-CBFB-41D6-B7B5-463D8E28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D18-483B-4F16-928F-840486A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D46-7D73-4259-8D55-4B2193C7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69E9-64C3-4C78-A35A-2E828787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16FC-B735-45EF-B9C9-288310A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FCE-B4BE-4652-9894-57FF796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B52-4429-4226-A144-8A7CCEB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AF5C-F279-4955-9D60-817A56A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72A-0460-456B-9DFF-7280248C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E984-FF60-4605-A0BF-A077420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923-2825-40EF-9ED3-4289223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94B-389F-4140-B08D-0D2F58B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1889-7412-4D76-B054-4E712ED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D53C-C1E5-46EB-9645-B3F6C75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B977-F7F4-4966-8A37-52A2AB6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254A-C59A-42AF-AA75-AF4B145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7F3-6442-4E81-B560-42563A9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288-4A49-47DA-AD6B-7C03FAB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8C8-FDB6-43B4-A005-2881C9DC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662-E9E3-45DF-AB33-CBFD243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41D-C2C6-49DF-8C3B-56CB7DC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7B9-EDD0-4679-80A7-410ECB4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21E-2336-47A4-A0E0-EBB4D72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246-5E8B-452A-BEFB-CAD6BB0C1FDE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F97-61CD-4B1B-8688-5B0EF7CF2FA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989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252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pl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Jennif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typ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my hairdress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our teac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89000"/>
            <a:ext cx="428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s good at looking aft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blow dries my hair ever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has a son called S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fixed a leak in our pipes last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orks in a large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15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r 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he reached the car park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he was very tire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pite queuing for hours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id our homewor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ited for my broth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- 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a brief pause with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items in a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additi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longer sentences into smaller p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numbers into thous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 - 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a is a punctuation m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us to take a brief pause when we are reading – not as long as a full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the most common punctuation mark but has to be used careful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can change the meaning of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,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ing meaning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re is a list of words 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need hammers, nails and a sa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stopped, stared and r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 Cherry was a warm, hospitable 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 frightened the cat, teased the dog and annoyed the neighb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break up longer sentences into smaller parts to make more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he saw the pirate ship on the horizon, the captain gave the al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lled as loudly as she could, but no-one could hear 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separate any extra information that is ad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enclosed by the commas could be left out without changing the general meaning of the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our star player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 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who was wearing a blue hat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 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reak up groups of numbers into thous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999,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riting a d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br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leaving tomorrow,” said F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47:51Z</dcterms:created>
  <dc:creator>Julie Wiskow</dc:creator>
  <dc:description/>
  <dc:language>en-US</dc:language>
  <cp:lastModifiedBy>Pitchford</cp:lastModifiedBy>
  <dcterms:modified xsi:type="dcterms:W3CDTF">2005-09-25T06:44:30Z</dcterms:modified>
  <cp:revision>6</cp:revision>
  <dc:subject/>
  <dc:title>Commas</dc:title>
</cp:coreProperties>
</file>