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8B7-6610-4251-A4F2-DA8275EB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235-AD19-4138-A9D8-10A8369D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AA7-088F-4FDB-A7A8-7951355E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861-E16E-47FE-A231-76E19722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4AF3-396C-4799-B535-FF0C5535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4264-B26B-4AA7-AAF7-F3359CF9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EE4A-C7E6-47EB-AA75-3C0E0923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ADD1-CA23-4E63-B616-E095F724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3AF3-CADF-4870-852D-15C85B7D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548A-DDB0-4F7B-AF2D-2C8291C6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3B38-B9BD-48DA-B4B1-29A882AF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717-332C-470D-A569-C1D569CE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BB47-D993-4042-BAA0-27BA1F5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08FA-B8F3-40A0-BE32-EAA3E57F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9541-6631-47C8-8565-E63E618A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D30A-31D9-49A1-8F2A-65C2D3FD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A1A4-41A9-4AA5-9EF4-A7D0C3C1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C92-06DB-480A-8D52-CC443813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751-8482-47C9-B5D3-5E4A25B8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A28-26E2-4DA4-9203-B306AB8D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059-7DAF-4048-9C17-D06A6B14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034-BB07-4610-9AB2-D2B79B63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CA0-427D-43C6-8BB1-677ADC42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EFE-897F-4DA1-B6AB-26DBC9D0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E93D-A816-4E64-B1ED-0914EFC80BD9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85BA-75DB-4650-B1AB-151E85E335CB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ma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use th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1989000"/>
            <a:ext cx="22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1989000"/>
            <a:ext cx="252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the plumb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Jennif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the typi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my hairdress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our teac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1989000"/>
            <a:ext cx="428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s good at looking after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blow dries my hair every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has a son called S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fixed a leak in our pipes last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works in a large off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989000"/>
            <a:ext cx="15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ss J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rs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r n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r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he reached the car park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hough he was very tired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pite queuing for hours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did our homework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ited for my brothe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 - Com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a brief pause within a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parate items in a l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parate additional 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eak up longer sentences into smaller par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eak up numbers into thous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ide speech mar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as - 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ma is a punctuation ma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tells us to take a brief pause when we are reading – not as long as a full st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the most common punctuation mark but has to be used carefull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s can change the meaning of a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tle of 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ts shoots and lea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ts, shoots and lea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nging meaning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ld lady collected all sorts of things: silver, paper, hats, clocks and tableclo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ld lady collected all sorts of things: silver paper, hats, clocks and tableclo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ld lady collected all sorts of things: silver, paper hats, clocks and tableclo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Uses -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re is a list of words in a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need hammers, nails and a saw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stopped, stared and r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 Cherry was a warm, hospitable m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 frightened the cat, teased the dog and annoyed the neighbou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Uses -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s are used to break up longer sentences into smaller parts to make more sen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he saw the pirate ship on the horizon, the captain gave the ala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called as loudly as she could, but no-one could hear 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Uses -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s are used to separate any extra information that is add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s enclosed by the commas could be left out without changing the general meaning of the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ng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ul Man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our star player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oke his leg in the match on Satu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ul Mann broke his leg in the match on Satu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who was wearing a blue hat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id silently into the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n slid silently into the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U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break up groups of numbers into thousa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,999,99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riting a d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bruary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199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ide speech mar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leaving tomorrow,” said Fr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47:51Z</dcterms:created>
  <dc:creator>Julie Wiskow</dc:creator>
  <dc:description/>
  <dc:language>en-US</dc:language>
  <cp:lastModifiedBy>Pitchford</cp:lastModifiedBy>
  <dcterms:modified xsi:type="dcterms:W3CDTF">2005-09-25T06:44:30Z</dcterms:modified>
  <cp:revision>6</cp:revision>
  <dc:subject/>
  <dc:title>Commas</dc:title>
</cp:coreProperties>
</file>