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C34-6512-468E-8D9C-E0DC5F76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488-1B9B-4EFC-94D1-38769E1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39E-FA3D-41BC-9EE5-26516A54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DDD-D7BB-44C3-859A-54ABE8B6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53E-BDF0-4910-B214-39985D03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4E68-4AAE-4090-A585-01CF0754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3D6A-3C43-481D-B1B8-1206B30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A59-A78D-4F00-953A-AB4761DA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DD13-8DE3-46A4-A3A9-A7146C51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D679-267E-4C94-9CCB-0B6F6705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38C0-3AED-4AF6-9B10-6787AA1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F52-EFB6-4793-8732-41B76C11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D80-D221-4404-BEB5-050EE60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E68-3DE2-4D0D-9C7C-44E6328A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000-B4AE-43BB-8BA0-2F85CC26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7593-0EBC-436C-B409-C942EE8E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AB21-C338-431F-8F2A-CF9958E1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65A-D5DB-4449-8947-B4A6CEB7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F36-1112-492B-A99A-3F15815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CC5-8B7A-41BC-A758-8225B5BD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57B-474F-42F7-9FC3-0B5D05AE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698-FD51-4DA2-B8ED-B05463D4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3E9-5439-4BEA-BEC1-965E4B6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647-3695-4863-AE92-DD35D78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41A-3665-4CE3-872D-FBF0A7D50093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304C-E22E-4EDD-B1B5-8AD43310FE6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use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989000"/>
            <a:ext cx="22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252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plumb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Jennif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the typi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my hairdress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our teac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1989000"/>
            <a:ext cx="428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is good at looking aft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blow dries my hair ever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has a son called S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fixed a leak in our pipes last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works in a large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151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s 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s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r 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he reached the car park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he was very tire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pite queuing for hours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id our homewor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ited for my brothe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- 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a brief pause with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items in a li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parate additional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longer sentences into smaller pa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k up numbers into thous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 - 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a is a punctuation m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us to take a brief pause when we are reading – not as long as a full sto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the most common punctuation mark but has to be used carefull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can change the meaning of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ts, shoots and lea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ing meaning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 paper,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ld lady collected all sorts of things: silver, paper hats, clocks and tableclo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re is a list of words in a sent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need hammers, nails and a sa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stopped, stared and r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 Cherry was a warm, hospitable 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 frightened the cat, teased the dog and annoyed the neighb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break up longer sentences into smaller parts to make more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he saw the pirate ship on the horizon, the captain gave the ala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lled as loudly as she could, but no-one could hear h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Uses -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as are used to separate any extra information that is add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enclosed by the commas could be left out without changing the general meaning of the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our star player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ul Mann broke his leg in the match on Satur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who was wearing a blue hat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n slid silently into the ro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U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break up groups of numbers into thous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,999,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riting a d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bruary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speech mar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leaving tomorrow,” said Fr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47:51Z</dcterms:created>
  <dc:creator>Julie Wiskow</dc:creator>
  <dc:description/>
  <dc:language>en-US</dc:language>
  <cp:lastModifiedBy>Pitchford</cp:lastModifiedBy>
  <dcterms:modified xsi:type="dcterms:W3CDTF">2005-09-25T06:44:30Z</dcterms:modified>
  <cp:revision>6</cp:revision>
  <dc:subject/>
  <dc:title>Commas</dc:title>
</cp:coreProperties>
</file>